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76A0-6414-4EC0-8ECE-7C0DA0902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B571-18C6-40E1-9C74-E65F5BE05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2E5F-1F4F-472E-A1A2-C6BCA21D0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49ED-F0BF-4A6A-99DE-109F5B154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A5C4-D086-4B0C-8786-E229730C2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539B-E9F9-4D79-8CF3-11587F64B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2D2F-1089-4429-919A-E21E6B5FF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A682-DD88-4E86-AC13-8E37F21FC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C6A5-520E-43FF-9BA1-251B386D3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6614-9B77-449A-BB79-EE1671F6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B0CC-4B32-41B6-9217-C8E760DE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5E33-3D7D-482C-AD90-620260BA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60F5F-B377-49B3-B36E-03AFC852C6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5:47:45Z</dcterms:created>
  <dc:creator>ricardo.scantamburlo</dc:creator>
  <dc:description/>
  <dc:language>en-US</dc:language>
  <cp:lastModifiedBy>ricardo.scantamburlo</cp:lastModifiedBy>
  <dcterms:modified xsi:type="dcterms:W3CDTF">2005-01-31T15:50:01Z</dcterms:modified>
  <cp:revision>4</cp:revision>
  <dc:subject/>
  <dc:title>Slide 1</dc:title>
</cp:coreProperties>
</file>